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7D69-AE6E-40BD-B18A-EC526E9274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amite il “confronto collaborativo” dei docenti di classe si può costruire un progetto educativo interdisciplinare, relativo e contestualizzato alle capacità ed agli interessi degli alunni, alle dinamiche socio-relazionali nella classe, alle necessità e alle proposte degli insegnanti e della scuo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6F9-E700-4047-A41F-1F055072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9B6-27AD-41CC-BB40-50B6D08A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41B-1759-4B17-B224-DDAEA14C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A46-4B23-410B-BCD0-24EEFCF8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4AD-F236-4FF8-8CEA-00E1EDA4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F46-9C07-4FB1-90FB-E3A1FD7C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1D7A-6CFD-48C4-B079-6172BA5F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F967-98D9-4E4A-A226-0585964A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5F94-2EFE-47BF-9633-5B239736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4C0A-A50D-4236-B02A-CF85B055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1A75-F7A7-4D6A-B62D-6683DABC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C73-B2E8-4FE3-A8CC-388D78C5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741E-C0F8-4085-8499-E8C5E780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67F8-A26F-451C-89F2-7935F16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C451-1F5A-431E-96E9-EECF9077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E7A4-BA33-4BB3-8E5F-E2DA1181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9C7B-7077-437F-B55A-E700767E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330-EB0E-459E-B953-91AB9D94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C87-FFDE-490B-BDA7-0B355B8A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7E4-CE27-4CEF-AB0F-277A2FA5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D8C-C9C4-4286-9E72-A81954E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6AC-57A1-4F07-BF9D-A97F275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010-1723-479D-9B1A-71AC472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30A-C758-491B-8AB9-B38E2F1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242E-8075-4799-A377-1353E048BD54}" type="datetime">
              <a:rPr b="0" lang="it-IT" sz="1400" spc="-1" strike="noStrike">
                <a:solidFill>
                  <a:srgbClr val="40458c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99D1-E4F1-4D6C-BE6E-15E247EBB58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DB83-EF5B-4862-8386-BC291F2F22E1}" type="datetime">
              <a:rPr b="0" lang="it-IT" sz="1400" spc="-1" strike="noStrike">
                <a:solidFill>
                  <a:srgbClr val="40458c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93BD-C2AC-4BCF-96EC-F8A7C35602A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066320"/>
            <a:ext cx="6015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PROGET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47560" y="2057400"/>
            <a:ext cx="5181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PERCORSO FORMATIV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MBITO SOCIO-RELAZIONA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FC50E77-072F-44E9-81AE-7601994F39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troduzi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Obiettiv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- acquisire la capacità di costruire la mappa delle relazioni psico-sociali nella classe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- acquisire la capacità di analizzare le dinamiche psicologiche e le interazioni sociali all’interno della classe, median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a) la strutturazione psicologica dell’ambiente   scolastico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b) la disposizione spaziale degli alunni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c) la rilevazione dei ruoli scolastici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d) l’identificazione dei gruppi sociali e della loro funzione all’interno delle attività scolastiche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- conoscere l’atteggiamento educativo dell’insegnante mediante la mappa psico-sociale della classe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8089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- comprendere l’evoluzione delle interazioni socio-relazionali degli alunni all’interno del gruppo-classe.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EE637-4F11-4029-8A3F-BCF99459F12E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Argomenti-Attivit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1. Identificazione dei ruoli scolastici degli alunni    durante le esperienze scolastiche in bas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all’osservazione-ascolt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alla strutturazione dei posti e alla disposizione degli alunn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2. Identificazione dei ruoli scolastici degli alunni in base alla descrizione dell’ insegna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3. Confronto tra l’osservazione/ascolto delle attività (ottica della realtà scolastica) e la descrizione degli alunni effettuata dall’insegnante (ottica dell’insegnante) per la corrispondenza del ruolo degli alunn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4. Tabulazione e classificazione dei ruoli scolastici di una class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5. Identificazione dei ruoli scolastici degli alunni in base ai compagni di classe (ottica degli alunn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6. Confronto tra l’ottica della realtà scolastica, l’ottica del docente e l’ottica degli alunni per la determinazione del ruolo scolastico di ciascun alunno e dei gruppi all’interno della class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4AEE3-D930-4293-AAD2-FB912483BE9D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5 livelli del Progetto socio-relazionale di classe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I° livell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l’ottica dell’inseg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median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profili o descrizioni degli alunni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organizzazione della mappa dell’aul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6E372-ECFB-447D-BDA7-77C9A3C56898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I° Live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a documentazione della realtà scolas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medi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a realizzazione sistematica di osservazioni/ascol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92CF4-B178-478A-BD0F-A7B50CD7DCD7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II° Live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’ottica degli alunni medi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a mappa ideale della classe ideata da ciascun alun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l questionario relazionale sui rapporti psico-sociali tra gli alunni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56AB8-42DD-4646-A5BA-D5E67689AD33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66"/>
                </a:solidFill>
                <a:latin typeface="Tahoma"/>
              </a:rPr>
              <a:t>IV°  Livell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’ottica dei docenti del consiglio di classe medi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l confronto collaborativo tra insegnanti delle programmazioni didattiche e dei progetti educativi di ciascun docente di class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888840" y="6134040"/>
            <a:ext cx="68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Tramite il confronto “collaborativo” dei docenti di classe si può costrui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CD12D-1ABB-499A-8476-DC8092F08B77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66"/>
                </a:solidFill>
                <a:latin typeface="Tahoma"/>
              </a:rPr>
              <a:t>V° Livello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’ottica delle famiglie medi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a descrizione dei figli effettuata dai genitori o dalle persone familiari responsabili della loro educazion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954C3-6327-4C55-99D4-35B8CBF69A92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appa%20ispef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229600" cy="4813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279440" y="6086520"/>
            <a:ext cx="458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87882-E249-4A3B-875B-84E9FF01E176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vaso</cp:lastModifiedBy>
  <dcterms:modified xsi:type="dcterms:W3CDTF">2004-01-28T22:31:07Z</dcterms:modified>
  <cp:revision>4</cp:revision>
  <dc:subject/>
  <dc:title>Presentazione di PowerPoint</dc:title>
</cp:coreProperties>
</file>