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29A-C0F9-4167-B973-07E2A9EC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32C-A709-4C61-9A1E-8389B30B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1D2-EFC7-4F19-90A0-36736C36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B48-A440-4499-AEE1-DD2352D6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CCB-8BEA-4DE2-963A-43C219C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ECE-2C70-49B6-B5CF-52E9A15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A8A-778D-4F9E-B6C0-D64D8767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29A-5D92-4AE5-84F1-6FF0A1E5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326-5F1A-4D7F-AA60-0D9C3424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036-E734-4E58-8B32-81BA276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F4E-97FB-4895-9600-6719F77A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542-088E-4192-AC4A-C2DF010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ABA2-4424-494D-BFA0-B80DCA70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 SCUOLE PARTECIP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6553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I° Circolo Didattico di Maddal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.S.  Bruno Diodato con n°16 di corsiste di cui 4 docenti della Scuola dell’infan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° Circolo Didattico di San Felice a   Canc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.S. Patrizia Fantasia con n° 26 di corsiste di cui 4 docenti della Scuola dell’infan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ordinatrice Maria Carmina Giul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AB3-0907-4AD2-95DA-09BA544EAD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838080"/>
            <a:ext cx="8413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roduzione della documentazione è considerata da molti doc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involt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mpegnativ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quanto concerne la tipologia e la quantità; il tempo di produzione non include anche il tempo di presentazione ufficiale della document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a problematicità Tempo emersa tra il secondo e terzo incontro, si contrappone intanto una forte adesione alle richieste di consegne corrispondenti al primo inco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roduzione presentata da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centi refer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e loro riflessioni su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tilità degli strumenti metodologic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cquisiti, l’interesse notevole mostrato ver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o stile educativo del doc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nnes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tegorie pedagogi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e affermazioni da part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c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invol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di aver modificato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’approccio relazion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alcuni alunni, la sicurezza di procedere verso un’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”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indicata, sono gli indicatori di un processo in atto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utoform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oltre ch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orm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FB3-BF6E-4F72-929A-7B348B3AA9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 CONTENUTO IN AZIONE TESO AL SUO SVILUPP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5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6440" y="2057400"/>
            <a:ext cx="835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definizione è stata presa in prestito da un intervento di Lucio Guasti sul concetto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esso è stato definito ne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cessi formativ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 l’insieme coordinato e integrato di due elementi, i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cet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l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peratorie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Questi elementi, difficilmente dissociabili,  sembrano caratterizzare visibilmente e in positivo il Percorso base di formazione di cui ci stiamo occupando. Il risultato inteso come l’unificazione del concetto con la relativa operazione porta a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osce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petenze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so util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realizzazione del Progetto socio-relazion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A60-4F73-41E7-B063-12DA7FC032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2952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ambe le scuole sono inserite in un contesto socio-territoriale prevalentemente agricolo-commerciale, in cui il ruolo dell’artigianato, attivo a San Felice a Cancello, sembra perdere vigore nella realtà di Maddal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offerta formativa delle Istituzioni  è univoca nel venire incontro ai bisogni formativi e culturali dell’utenza scolastica con progetti extra-curricolari, che sposano le esigenze locali a quelle di istruzione nazional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637-82A2-4B28-9ABE-0B68A9EE4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71718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L PERCORSO FORMATIVO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INORA INTRAPR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stati espletati 4 incontri con i docenti referenti e 3 incontri con i referenti e i docenti coinvo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 suddetti incontri sono state trattate le tema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OF: analisi critica del documento rappresentativo dell’istituzione scolas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osservazione-ascolto, “foto educativa” della clas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ategorie pedagogich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A62-D144-4B41-A668-ED5322067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2193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3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33520"/>
            <a:ext cx="7788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alisi del profilo dell’alunno negli ambiti:psico-emozionale, socio-relazionale, logico-cognitivo,didattico-operativo. Dimensioni e sottodimensioni del profi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ile cognitivo dell’alunno, lo stile educativo del do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uoli degli alunni e le dinamiche relazion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scuola come comunità educ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alisi e tabulazione dei ruoli scolastici degli alunni.Tabulazione complessiva della cl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mappa socio-relazionale: le fasi di costruzione della map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fronto ed analisi tra i profili e le osservazioni-ascolto effett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struzione della mappa socio-relaz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497-D56D-4C2F-80E6-B6ABA74740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609480"/>
            <a:ext cx="8153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i comunicative della classe. I grafi relazionali tra gli                                                  alu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  Confronto sulle mappe socio-relazionali degli insegnanti della stess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Strutturazione della classe in gruppi di apprendimento e  gruppi di socializzazi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La mappa ideale: identificazione delle preferenze degli     alunni. Tabulazione ed analisi delle dinamiche socio-relazionali degli alunn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F26-2BDC-48DE-8787-1E54ABC1AC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0120" cy="1447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’ORGANIZZAZIONE DEGLI INTERVENT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ità di personalizzare il percorso formativo rispettando la graduale acquisizione di competenze nell’uso degli strumenti metodologici, utili alla realizzazione del Progetto educ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ssibilità nell’adesione alle conseg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ttabilità nella presentazione dei materiali, per ottimizzare la comunicazione dei contenuti al gruppo esteso dei docenti coinvo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zione della diffusione dei materiali di studio (supporto informat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B75-F442-4124-ADFE-91E337ECE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SSERVAZIONI-RIFLESSIO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atto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sico-emozion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 docente coordin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post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emotivo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-cognitiv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i cors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tivazione estrinseca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spettativ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motivazione intrin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docenti coinvolti: tempo formazione/ autoformazione/tempo produzione materiali/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blemati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ultura della </a:t>
            </a:r>
            <a:r>
              <a:rPr b="1" lang="it-IT" sz="2400" spc="-1" strike="noStrike">
                <a:solidFill>
                  <a:srgbClr val="00cc66"/>
                </a:solidFill>
                <a:latin typeface="Times New Roman"/>
              </a:rPr>
              <a:t>docu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rado di coinvolgimento dell’Istituzione:Dirigente Scolastico-personale ATA-docenti non cors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stazione del Percorso di form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utazione formativa dei cors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A37-2FC4-4527-BCE8-598B1DAF36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H="1">
            <a:off x="1142280" y="99072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04920"/>
            <a:ext cx="8077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atteggiamento delle insegnanti referenti sono emersi: un chiaro orientamento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ll’autoriflessione de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processi educativ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una sempre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crescente consapevolezza dei processi didattici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sapevolezza della graduale appropriazione di strumenti metodologic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mai esperiti precedente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uriosità e l’interesse costante per gli argomenti trattati hanno caratterizzato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’ascolto-attiv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tutti i docenti referenti e di un numero significativo dei docenti coinvolti, come gli interventi di partecipazione, registrati durante gli incontri, hanno mostr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L’interazione didatt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el piccolo gruppo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fer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ha assunto un signific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cognitiv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relazional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fondo che ha mantenuta alta la motivazione e supportato l’impegno produttivo delle inseg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A93-EF8C-462F-8B40-B8E01216D5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98560" y="727200"/>
            <a:ext cx="725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640" y="574560"/>
            <a:ext cx="801684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le relazione diventa  più difficile nel grande gruppo, in cui il numero alto dei partecipanti, un intervallo molto più esteso tra un incontro e l’altro, la scarsa possibilità di conoscenza professionale dei singoli docenti, il tempo assegnato all’incontro (2h e mezza), condizionano la continuità dell’intervento del coordinatore, nonostante gli adempimenti da parte de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ferent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di socializzare i contenu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e esperienze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gate all’acquisizione delle nuove metodologie intrapr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cente coinvol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motiva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sprime il disagio di non poter essere adeguatamente “coinvolto” (guidato) in una offerta formativa che necessariamente richiede un tempo di autoformazione, soprattutto laddove i riferimenti teorici di presentazione degli argomenti, risultino poco familiari al personale pregresso cultur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BBA-7094-4739-AEDC-D0EF9A9B80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3:49:53Z</dcterms:created>
  <dc:creator>Cavaso</dc:creator>
  <dc:description/>
  <dc:language>en-US</dc:language>
  <cp:lastModifiedBy>Cavaso</cp:lastModifiedBy>
  <dcterms:modified xsi:type="dcterms:W3CDTF">2004-02-15T19:05:28Z</dcterms:modified>
  <cp:revision>10</cp:revision>
  <dc:subject/>
  <dc:title>LE SCUOLE PARTECIPANTI</dc:title>
</cp:coreProperties>
</file>