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693-3E45-4FF9-9E61-DC5A540E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3EA-ED66-4B90-A36E-79B67BAB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BF7-8306-467F-9646-9F3505B4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A02-33D2-4D23-800F-2A28223F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8FD-FDBF-4240-B259-B87EB38A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C1A6-9B71-43D0-812E-6071891B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900-C41C-43DB-9F30-198FA30B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F9F-EBC4-4F21-982C-D3174467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C22-A416-455F-A915-FEE0B563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AD2-69B1-49E6-B8DB-2B680C41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466-0971-408B-AC21-348348D0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7AA-E117-4747-BB16-1390C7C8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fd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87280" y="6248520"/>
            <a:ext cx="37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7799-86C0-4097-A3F9-29CCAE084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fd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820000" cy="10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rogetto “Caserta: Provincia- Laboratorio”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ercorso avanz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898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Coordin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f. Tommaso Zar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f. Fernando Occhi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Scu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ceo Scientifico “F. Quercia”-Marcian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4000" y="4437000"/>
            <a:ext cx="8459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Refer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ff. Lia Rita Di Luzio - Floriana Giuliano - Elena Mar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omenico Me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-50760" y="933840"/>
            <a:ext cx="1159560" cy="979560"/>
            <a:chOff x="-50760" y="933840"/>
            <a:chExt cx="1159560" cy="979560"/>
          </a:xfrm>
        </p:grpSpPr>
        <p:sp>
          <p:nvSpPr>
            <p:cNvPr id="45" name=""/>
            <p:cNvSpPr/>
            <p:nvPr/>
          </p:nvSpPr>
          <p:spPr>
            <a:xfrm rot="1920000">
              <a:off x="25200" y="1186200"/>
              <a:ext cx="998640" cy="46476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920000">
              <a:off x="2880" y="121464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920000">
              <a:off x="134640" y="1233720"/>
              <a:ext cx="66060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50760" y="933840"/>
              <a:ext cx="1159560" cy="979560"/>
              <a:chOff x="-50760" y="933840"/>
              <a:chExt cx="1159560" cy="979560"/>
            </a:xfrm>
          </p:grpSpPr>
          <p:sp>
            <p:nvSpPr>
              <p:cNvPr id="49" name=""/>
              <p:cNvSpPr/>
              <p:nvPr/>
            </p:nvSpPr>
            <p:spPr>
              <a:xfrm rot="1920000">
                <a:off x="696600" y="1698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920000">
                <a:off x="0" y="117684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920000">
                <a:off x="153360" y="1160640"/>
                <a:ext cx="749520" cy="2790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920000">
                <a:off x="236520" y="1052280"/>
                <a:ext cx="9972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920000">
                <a:off x="321840" y="132120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468000" y="2133720"/>
            <a:ext cx="385200" cy="4308480"/>
            <a:chOff x="468000" y="2133720"/>
            <a:chExt cx="385200" cy="4308480"/>
          </a:xfrm>
        </p:grpSpPr>
        <p:sp>
          <p:nvSpPr>
            <p:cNvPr id="55" name=""/>
            <p:cNvSpPr/>
            <p:nvPr/>
          </p:nvSpPr>
          <p:spPr>
            <a:xfrm flipH="1">
              <a:off x="467640" y="4176720"/>
              <a:ext cx="32508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527760" y="2133720"/>
              <a:ext cx="32508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ura della Prof.ssa Lia Rita Di Luzio L.S."F.Quercia"-Marcianise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7CDB-BF44-45C3-BEDA-B01CE2A6B287}" type="slidenum">
              <a:t>1</a:t>
            </a:fld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fd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Form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isi della situazione di partenza: il contesto culturale, socio-educativo, scolastico e logistico-gest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valutazione formativa: l’acquisizione critica del modello ISPEF ed il confronto con la valutazione della nostra scu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oli di socializzazione e di apprendimento, stili cognitivi, strategie mentali e strutture di rag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processi di conoscenza e di apprend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 sviluppo intelle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dimensioni della 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’insufficienza e il ritardo men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459640" y="1700280"/>
            <a:ext cx="385920" cy="4308480"/>
            <a:chOff x="8459640" y="1700280"/>
            <a:chExt cx="385920" cy="4308480"/>
          </a:xfrm>
        </p:grpSpPr>
        <p:sp>
          <p:nvSpPr>
            <p:cNvPr id="177" name=""/>
            <p:cNvSpPr/>
            <p:nvPr/>
          </p:nvSpPr>
          <p:spPr>
            <a:xfrm flipH="1">
              <a:off x="8459640" y="37432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8520120" y="17002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690320" y="357120"/>
            <a:ext cx="1159560" cy="979920"/>
            <a:chOff x="7690320" y="357120"/>
            <a:chExt cx="1159560" cy="979920"/>
          </a:xfrm>
        </p:grpSpPr>
        <p:sp>
          <p:nvSpPr>
            <p:cNvPr id="180" name=""/>
            <p:cNvSpPr/>
            <p:nvPr/>
          </p:nvSpPr>
          <p:spPr>
            <a:xfrm rot="1920000">
              <a:off x="7765560" y="6094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920000">
              <a:off x="7743600" y="6386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920000">
              <a:off x="7875000" y="6577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690320" y="357120"/>
              <a:ext cx="1159560" cy="979920"/>
              <a:chOff x="7690320" y="357120"/>
              <a:chExt cx="1159560" cy="979920"/>
            </a:xfrm>
          </p:grpSpPr>
          <p:sp>
            <p:nvSpPr>
              <p:cNvPr id="184" name=""/>
              <p:cNvSpPr/>
              <p:nvPr/>
            </p:nvSpPr>
            <p:spPr>
              <a:xfrm rot="1920000">
                <a:off x="8436960" y="112248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920000">
                <a:off x="7740720" y="60012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920000">
                <a:off x="7894440" y="58392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920000">
                <a:off x="7976880" y="4762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920000">
                <a:off x="8062560" y="74484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ura della Prof.ssa Lia Rita Di Luzio L.S."F.Quercia"-Marcianis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A6D-B7E2-4A94-938C-B78E585CD4DF}" type="slidenum">
              <a:t>10</a:t>
            </a:fld>
          </a:p>
        </p:txBody>
      </p:sp>
    </p:spTree>
  </p:cSld>
  <p:transition spd="slow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fd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632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Attivita’ di tutoraggio</a:t>
            </a:r>
            <a:br>
              <a:rPr sz="32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perimentazione e produzione della documentazione da parte dei referenti e docenti coinvolt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989000"/>
            <a:ext cx="7848360" cy="39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dot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isi critica del P.O.F. 2003/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aborazione di schede di osservazione-asco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aborazione dei profili degli alunni nelle quattro dimens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otesi di ruolo di socializzazione e di apprend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ividuazione degli stili cogni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ronto tra doc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459640" y="1700280"/>
            <a:ext cx="385920" cy="4308480"/>
            <a:chOff x="8459640" y="1700280"/>
            <a:chExt cx="385920" cy="4308480"/>
          </a:xfrm>
        </p:grpSpPr>
        <p:sp>
          <p:nvSpPr>
            <p:cNvPr id="192" name=""/>
            <p:cNvSpPr/>
            <p:nvPr/>
          </p:nvSpPr>
          <p:spPr>
            <a:xfrm flipH="1">
              <a:off x="8459640" y="37432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520120" y="17002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690320" y="357120"/>
            <a:ext cx="1159560" cy="979920"/>
            <a:chOff x="7690320" y="357120"/>
            <a:chExt cx="1159560" cy="979920"/>
          </a:xfrm>
        </p:grpSpPr>
        <p:sp>
          <p:nvSpPr>
            <p:cNvPr id="195" name=""/>
            <p:cNvSpPr/>
            <p:nvPr/>
          </p:nvSpPr>
          <p:spPr>
            <a:xfrm rot="1920000">
              <a:off x="7765560" y="6094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20000">
              <a:off x="7743600" y="6386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920000">
              <a:off x="7875000" y="6577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7690320" y="357120"/>
              <a:ext cx="1159560" cy="979920"/>
              <a:chOff x="7690320" y="357120"/>
              <a:chExt cx="1159560" cy="979920"/>
            </a:xfrm>
          </p:grpSpPr>
          <p:sp>
            <p:nvSpPr>
              <p:cNvPr id="199" name=""/>
              <p:cNvSpPr/>
              <p:nvPr/>
            </p:nvSpPr>
            <p:spPr>
              <a:xfrm rot="1920000">
                <a:off x="8436960" y="112248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920000">
                <a:off x="7740720" y="60012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20000">
                <a:off x="7894440" y="58392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920000">
                <a:off x="7976880" y="4762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920000">
                <a:off x="8062560" y="74484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ura della Prof.ssa Lia Rita Di Luzio L.S."F.Quercia"-Marcianis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57A7-ADA6-49D2-B58F-9D6F5851DB7C}" type="slidenum">
              <a:t>11</a:t>
            </a:fld>
          </a:p>
        </p:txBody>
      </p:sp>
    </p:spTree>
  </p:cSld>
  <p:transition spd="slow">
    <p:random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fd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Attivita’ di collaborazione</a:t>
            </a:r>
            <a:br>
              <a:rPr sz="32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attività sono coordinate dai referenti e rivolte ai docenti coinvolti; si svolgono in orario pomeridiano, sono verbalizzate e documenta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2492280"/>
            <a:ext cx="784872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dot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isi del contesto socio-educativo, culturale, scolastico, logistico-gest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ronto tra il modello di valutazione ISPEF e quello della nostra scu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ronto ed analisi delle mappe dei processi cognitivi degli alu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459640" y="1700280"/>
            <a:ext cx="385920" cy="4308480"/>
            <a:chOff x="8459640" y="1700280"/>
            <a:chExt cx="385920" cy="4308480"/>
          </a:xfrm>
        </p:grpSpPr>
        <p:sp>
          <p:nvSpPr>
            <p:cNvPr id="207" name=""/>
            <p:cNvSpPr/>
            <p:nvPr/>
          </p:nvSpPr>
          <p:spPr>
            <a:xfrm flipH="1">
              <a:off x="8459640" y="37432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8520120" y="17002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690320" y="357120"/>
            <a:ext cx="1159560" cy="979920"/>
            <a:chOff x="7690320" y="357120"/>
            <a:chExt cx="1159560" cy="979920"/>
          </a:xfrm>
        </p:grpSpPr>
        <p:sp>
          <p:nvSpPr>
            <p:cNvPr id="210" name=""/>
            <p:cNvSpPr/>
            <p:nvPr/>
          </p:nvSpPr>
          <p:spPr>
            <a:xfrm rot="1920000">
              <a:off x="7765560" y="6094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920000">
              <a:off x="7743600" y="6386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920000">
              <a:off x="7875000" y="6577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7690320" y="357120"/>
              <a:ext cx="1159560" cy="979920"/>
              <a:chOff x="7690320" y="357120"/>
              <a:chExt cx="1159560" cy="979920"/>
            </a:xfrm>
          </p:grpSpPr>
          <p:sp>
            <p:nvSpPr>
              <p:cNvPr id="214" name=""/>
              <p:cNvSpPr/>
              <p:nvPr/>
            </p:nvSpPr>
            <p:spPr>
              <a:xfrm rot="1920000">
                <a:off x="8436960" y="112248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20000">
                <a:off x="7740720" y="60012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920000">
                <a:off x="7894440" y="58392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920000">
                <a:off x="7976880" y="4762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0000">
                <a:off x="8062560" y="74484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ura della Prof.ssa Lia Rita Di Luzio L.S."F.Quercia"-Marcianis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8A1-DA8E-4B26-A67F-47AC99789D43}" type="slidenum">
              <a:t>12</a:t>
            </a:fld>
          </a:p>
        </p:txBody>
      </p:sp>
    </p:spTree>
  </p:cSld>
  <p:transition spd="slow"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fd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Esiti del perco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lteriore socializzazione delle metodologie educative del Progetto Fare Scu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ffusione della cultura della documen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fronto costruttivo tra i docenti dei Consigli di C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fficacia delle attività laborato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viluppo della capacità di mettere in discussione se stesso e le proprie ipotesi attraverso il metodo della ricerca-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fficoltà ad impegnare i docenti dei Consigli di Classe nella produzione della documen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fficoltà ad inserire nell’orario curricolare l’attività di sperimen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88360" y="1773360"/>
            <a:ext cx="385920" cy="4308480"/>
            <a:chOff x="8388360" y="1773360"/>
            <a:chExt cx="385920" cy="4308480"/>
          </a:xfrm>
        </p:grpSpPr>
        <p:sp>
          <p:nvSpPr>
            <p:cNvPr id="222" name=""/>
            <p:cNvSpPr/>
            <p:nvPr/>
          </p:nvSpPr>
          <p:spPr>
            <a:xfrm flipH="1">
              <a:off x="8388360" y="381636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8448840" y="177336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761240" y="573480"/>
            <a:ext cx="1159560" cy="979560"/>
            <a:chOff x="7761240" y="573480"/>
            <a:chExt cx="1159560" cy="979560"/>
          </a:xfrm>
        </p:grpSpPr>
        <p:sp>
          <p:nvSpPr>
            <p:cNvPr id="225" name=""/>
            <p:cNvSpPr/>
            <p:nvPr/>
          </p:nvSpPr>
          <p:spPr>
            <a:xfrm rot="1920000">
              <a:off x="7837200" y="825840"/>
              <a:ext cx="998640" cy="46476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920000">
              <a:off x="7814880" y="8542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920000">
              <a:off x="7946640" y="873360"/>
              <a:ext cx="66060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7761240" y="573480"/>
              <a:ext cx="1159560" cy="979560"/>
              <a:chOff x="7761240" y="573480"/>
              <a:chExt cx="1159560" cy="979560"/>
            </a:xfrm>
          </p:grpSpPr>
          <p:sp>
            <p:nvSpPr>
              <p:cNvPr id="229" name=""/>
              <p:cNvSpPr/>
              <p:nvPr/>
            </p:nvSpPr>
            <p:spPr>
              <a:xfrm rot="1920000">
                <a:off x="8508600" y="133776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920000">
                <a:off x="7811640" y="81648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920000">
                <a:off x="7965360" y="800280"/>
                <a:ext cx="749520" cy="2790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920000">
                <a:off x="8048520" y="691920"/>
                <a:ext cx="9972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920000">
                <a:off x="8133840" y="96084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ura della Prof.ssa Lia Rita Di Luzio L.S."F.Quercia"-Marcianis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20F-5FE0-443D-9EDE-5CB8F76570D5}" type="slidenum">
              <a:t>13</a:t>
            </a:fld>
          </a:p>
        </p:txBody>
      </p:sp>
    </p:spTree>
  </p:cSld>
  <p:transition spd="slow"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fd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2060640"/>
            <a:ext cx="2944800" cy="1719360"/>
          </a:xfrm>
          <a:prstGeom prst="ellipse">
            <a:avLst/>
          </a:prstGeom>
          <a:solidFill>
            <a:srgbClr val="3333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269080"/>
            <a:ext cx="2519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Proge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FARE SCU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Corso bien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27280" y="189000"/>
            <a:ext cx="3529080" cy="2087640"/>
          </a:xfrm>
          <a:prstGeom prst="ellipse">
            <a:avLst/>
          </a:prstGeom>
          <a:solidFill>
            <a:srgbClr val="3333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2060640"/>
            <a:ext cx="2873160" cy="1873080"/>
          </a:xfrm>
          <a:prstGeom prst="ellipse">
            <a:avLst/>
          </a:prstGeom>
          <a:solidFill>
            <a:srgbClr val="3333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 rot="10778400">
            <a:off x="3046320" y="276480"/>
            <a:ext cx="281952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P.O.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L.S. “F. Querci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Autonomia di Ricerca e Sperimen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16720" y="2308680"/>
            <a:ext cx="1981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Proget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CASERTA: Provincia- Labora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32480" y="9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4076640"/>
            <a:ext cx="3529080" cy="2087640"/>
          </a:xfrm>
          <a:prstGeom prst="ellipse">
            <a:avLst/>
          </a:prstGeom>
          <a:solidFill>
            <a:srgbClr val="3333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 rot="10778400">
            <a:off x="3117600" y="4687200"/>
            <a:ext cx="274644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PERCOR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per la QUALIT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8431400">
            <a:off x="1511280" y="1233360"/>
            <a:ext cx="1008000" cy="503280"/>
          </a:xfrm>
          <a:prstGeom prst="leftArrow">
            <a:avLst>
              <a:gd name="adj1" fmla="val 50000"/>
              <a:gd name="adj2" fmla="val 5007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052400">
            <a:off x="5076720" y="3357360"/>
            <a:ext cx="1008000" cy="502920"/>
          </a:xfrm>
          <a:prstGeom prst="leftArrow">
            <a:avLst>
              <a:gd name="adj1" fmla="val 50000"/>
              <a:gd name="adj2" fmla="val 501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3756800">
            <a:off x="6120000" y="1233000"/>
            <a:ext cx="1008000" cy="503280"/>
          </a:xfrm>
          <a:prstGeom prst="leftArrow">
            <a:avLst>
              <a:gd name="adj1" fmla="val 50000"/>
              <a:gd name="adj2" fmla="val 5007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3323600">
            <a:off x="3058920" y="3429000"/>
            <a:ext cx="1008000" cy="503280"/>
          </a:xfrm>
          <a:prstGeom prst="leftArrow">
            <a:avLst>
              <a:gd name="adj1" fmla="val 50000"/>
              <a:gd name="adj2" fmla="val 5007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ura della Prof.ssa Lia Rita Di Luzio L.S."F.Quercia"-Marcian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AC9-7151-4F39-9136-F4971DE04343}" type="slidenum">
              <a:t>2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fd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6920" y="191628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1628640"/>
            <a:ext cx="777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ettare di azioni di miglio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venire la dispersione scola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ettare “piani di studio personalizzat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4149720"/>
            <a:ext cx="770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etodologia scientifica della ricerca-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’elaborazione di un Progetto formativo con ipot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’intervento sul singolo alunno e sull’intera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620640"/>
            <a:ext cx="73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404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Le azioni del percorso per la Qualita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40000" y="335772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li stru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532720" y="1916280"/>
            <a:ext cx="385920" cy="4308480"/>
            <a:chOff x="8532720" y="19162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532720" y="39592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593200" y="19162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834680" y="645840"/>
            <a:ext cx="1159560" cy="979920"/>
            <a:chOff x="7834680" y="645840"/>
            <a:chExt cx="1159560" cy="979920"/>
          </a:xfrm>
        </p:grpSpPr>
        <p:sp>
          <p:nvSpPr>
            <p:cNvPr id="80" name=""/>
            <p:cNvSpPr/>
            <p:nvPr/>
          </p:nvSpPr>
          <p:spPr>
            <a:xfrm rot="1920000">
              <a:off x="7909920" y="89820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920000">
              <a:off x="7887960" y="92736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0000">
              <a:off x="8019360" y="94644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7834680" y="645840"/>
              <a:ext cx="1159560" cy="979920"/>
              <a:chOff x="7834680" y="645840"/>
              <a:chExt cx="1159560" cy="979920"/>
            </a:xfrm>
          </p:grpSpPr>
          <p:sp>
            <p:nvSpPr>
              <p:cNvPr id="84" name=""/>
              <p:cNvSpPr/>
              <p:nvPr/>
            </p:nvSpPr>
            <p:spPr>
              <a:xfrm rot="1920000">
                <a:off x="8581320" y="141120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920000">
                <a:off x="7885080" y="88884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920000">
                <a:off x="8038800" y="8726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920000">
                <a:off x="8121240" y="7650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920000">
                <a:off x="8206920" y="103356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ura della Prof.ssa Lia Rita Di Luzio L.S."F.Quercia"-Marcian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371-EA0F-4EAF-AAD8-B8BA82CE71B0}" type="slidenum">
              <a:t>3</a:t>
            </a:fld>
          </a:p>
        </p:txBody>
      </p:sp>
    </p:spTree>
  </p:cSld>
  <p:transition spd="slow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fd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 protagoni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io dei Doc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gli di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ttro refer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ttro classi: IIC, VE, IVD, IVC ( 87 studen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 docenti coinvo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243640" y="1916280"/>
            <a:ext cx="385200" cy="4308480"/>
            <a:chOff x="8243640" y="1916280"/>
            <a:chExt cx="385200" cy="4308480"/>
          </a:xfrm>
        </p:grpSpPr>
        <p:sp>
          <p:nvSpPr>
            <p:cNvPr id="92" name=""/>
            <p:cNvSpPr/>
            <p:nvPr/>
          </p:nvSpPr>
          <p:spPr>
            <a:xfrm flipH="1">
              <a:off x="8243280" y="3959280"/>
              <a:ext cx="32508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8303400" y="1916280"/>
              <a:ext cx="32508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545960" y="645840"/>
            <a:ext cx="1159560" cy="979920"/>
            <a:chOff x="7545960" y="645840"/>
            <a:chExt cx="1159560" cy="979920"/>
          </a:xfrm>
        </p:grpSpPr>
        <p:sp>
          <p:nvSpPr>
            <p:cNvPr id="95" name=""/>
            <p:cNvSpPr/>
            <p:nvPr/>
          </p:nvSpPr>
          <p:spPr>
            <a:xfrm rot="1920000">
              <a:off x="7621200" y="89820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920000">
              <a:off x="7599240" y="92736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920000">
              <a:off x="7730640" y="94644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7545960" y="645840"/>
              <a:ext cx="1159560" cy="979920"/>
              <a:chOff x="7545960" y="645840"/>
              <a:chExt cx="1159560" cy="979920"/>
            </a:xfrm>
          </p:grpSpPr>
          <p:sp>
            <p:nvSpPr>
              <p:cNvPr id="99" name=""/>
              <p:cNvSpPr/>
              <p:nvPr/>
            </p:nvSpPr>
            <p:spPr>
              <a:xfrm rot="1920000">
                <a:off x="8292600" y="141120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920000">
                <a:off x="7596360" y="88884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920000">
                <a:off x="7750080" y="8726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920000">
                <a:off x="7832520" y="7650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920000">
                <a:off x="7918200" y="103356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ura della Prof.ssa Lia Rita Di Luzio L.S."F.Quercia"-Marcianis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361-191C-477E-89BB-D9B518E2D8B9}" type="slidenum">
              <a:t>4</a:t>
            </a:fld>
          </a:p>
        </p:txBody>
      </p:sp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fd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llegio Doc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desi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 Pro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zione e sensibilizzazi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i docenti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io attraverso due comunic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pprovazi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ll’inizio delle attività di rice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rimentazione del percorso avanzato nelle quattro classi presce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316720" y="1700280"/>
            <a:ext cx="385200" cy="4308480"/>
            <a:chOff x="8316720" y="1700280"/>
            <a:chExt cx="385200" cy="4308480"/>
          </a:xfrm>
        </p:grpSpPr>
        <p:sp>
          <p:nvSpPr>
            <p:cNvPr id="107" name=""/>
            <p:cNvSpPr/>
            <p:nvPr/>
          </p:nvSpPr>
          <p:spPr>
            <a:xfrm flipH="1">
              <a:off x="8316360" y="3743280"/>
              <a:ext cx="32508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376480" y="1700280"/>
              <a:ext cx="32508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617240" y="501480"/>
            <a:ext cx="1159560" cy="979920"/>
            <a:chOff x="7617240" y="501480"/>
            <a:chExt cx="1159560" cy="979920"/>
          </a:xfrm>
        </p:grpSpPr>
        <p:sp>
          <p:nvSpPr>
            <p:cNvPr id="110" name=""/>
            <p:cNvSpPr/>
            <p:nvPr/>
          </p:nvSpPr>
          <p:spPr>
            <a:xfrm rot="1920000">
              <a:off x="7692480" y="7538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920000">
              <a:off x="7670520" y="783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920000">
              <a:off x="7801920" y="8020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7617240" y="501480"/>
              <a:ext cx="1159560" cy="979920"/>
              <a:chOff x="7617240" y="501480"/>
              <a:chExt cx="1159560" cy="979920"/>
            </a:xfrm>
          </p:grpSpPr>
          <p:sp>
            <p:nvSpPr>
              <p:cNvPr id="114" name=""/>
              <p:cNvSpPr/>
              <p:nvPr/>
            </p:nvSpPr>
            <p:spPr>
              <a:xfrm rot="1920000">
                <a:off x="8363880" y="12668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20000">
                <a:off x="7667640" y="7444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20000">
                <a:off x="7821360" y="72828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20000">
                <a:off x="7903800" y="62064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20000">
                <a:off x="7989480" y="8892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ura della Prof.ssa Lia Rita Di Luzio L.S."F.Quercia"-Marcianis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50D-C291-4215-8561-120E72D38706}" type="slidenum">
              <a:t>5</a:t>
            </a:fld>
          </a:p>
        </p:txBody>
      </p:sp>
    </p:spTree>
  </p:cSld>
  <p:transition spd="slow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fd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nsigli di Cla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divisi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l Progetto nei Consigli delle classi coinvo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llaborazi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 alcuni docenti dei Consigli di Classe nelle attività di sperimen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ecipazi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 alcuni docenti dei Consigli di Classe al corso di aggiornamento-formazione di base tenuto dai coordinatori e dai refer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459640" y="1341360"/>
            <a:ext cx="385920" cy="4308480"/>
            <a:chOff x="8459640" y="1341360"/>
            <a:chExt cx="385920" cy="4308480"/>
          </a:xfrm>
        </p:grpSpPr>
        <p:sp>
          <p:nvSpPr>
            <p:cNvPr id="122" name=""/>
            <p:cNvSpPr/>
            <p:nvPr/>
          </p:nvSpPr>
          <p:spPr>
            <a:xfrm flipH="1">
              <a:off x="8459640" y="338436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8520120" y="134136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761600" y="214200"/>
            <a:ext cx="1159560" cy="979920"/>
            <a:chOff x="7761600" y="214200"/>
            <a:chExt cx="1159560" cy="979920"/>
          </a:xfrm>
        </p:grpSpPr>
        <p:sp>
          <p:nvSpPr>
            <p:cNvPr id="125" name=""/>
            <p:cNvSpPr/>
            <p:nvPr/>
          </p:nvSpPr>
          <p:spPr>
            <a:xfrm rot="1920000">
              <a:off x="7836840" y="466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920000">
              <a:off x="7814880" y="4957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20000">
              <a:off x="7946280" y="514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7761600" y="214200"/>
              <a:ext cx="1159560" cy="979920"/>
              <a:chOff x="7761600" y="214200"/>
              <a:chExt cx="1159560" cy="979920"/>
            </a:xfrm>
          </p:grpSpPr>
          <p:sp>
            <p:nvSpPr>
              <p:cNvPr id="129" name=""/>
              <p:cNvSpPr/>
              <p:nvPr/>
            </p:nvSpPr>
            <p:spPr>
              <a:xfrm rot="1920000">
                <a:off x="8508240" y="9795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20000">
                <a:off x="7812000" y="457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920000">
                <a:off x="7965720" y="44100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920000">
                <a:off x="8048160" y="3333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920000">
                <a:off x="8133840" y="6019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ura della Prof.ssa Lia Rita Di Luzio L.S."F.Quercia"-Marcianis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AC5-417A-4350-A5D5-EB8B18BBC570}" type="slidenum">
              <a:t>6</a:t>
            </a:fld>
          </a:p>
        </p:txBody>
      </p:sp>
    </p:spTree>
  </p:cSld>
  <p:transition spd="slow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fd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Obiettivi specifici del percorso avanz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Comprender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l’evoluzione psico-cognitiva e socio-relazionale degli stud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Costruir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trategie educative d’intervento e ipotesi psico-pedagogiche (Progetto form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532720" y="1628640"/>
            <a:ext cx="385920" cy="4308480"/>
            <a:chOff x="8532720" y="1628640"/>
            <a:chExt cx="385920" cy="4308480"/>
          </a:xfrm>
        </p:grpSpPr>
        <p:sp>
          <p:nvSpPr>
            <p:cNvPr id="137" name=""/>
            <p:cNvSpPr/>
            <p:nvPr/>
          </p:nvSpPr>
          <p:spPr>
            <a:xfrm flipH="1">
              <a:off x="8532720" y="367164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8593200" y="162864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834680" y="430200"/>
            <a:ext cx="1159560" cy="979920"/>
            <a:chOff x="7834680" y="430200"/>
            <a:chExt cx="1159560" cy="979920"/>
          </a:xfrm>
        </p:grpSpPr>
        <p:sp>
          <p:nvSpPr>
            <p:cNvPr id="140" name=""/>
            <p:cNvSpPr/>
            <p:nvPr/>
          </p:nvSpPr>
          <p:spPr>
            <a:xfrm rot="1920000">
              <a:off x="7909920" y="682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920000">
              <a:off x="7887960" y="7117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920000">
              <a:off x="8019360" y="730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834680" y="430200"/>
              <a:ext cx="1159560" cy="979920"/>
              <a:chOff x="7834680" y="430200"/>
              <a:chExt cx="1159560" cy="979920"/>
            </a:xfrm>
          </p:grpSpPr>
          <p:sp>
            <p:nvSpPr>
              <p:cNvPr id="144" name=""/>
              <p:cNvSpPr/>
              <p:nvPr/>
            </p:nvSpPr>
            <p:spPr>
              <a:xfrm rot="1920000">
                <a:off x="8581320" y="11955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920000">
                <a:off x="7885080" y="673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920000">
                <a:off x="8038800" y="65700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20000">
                <a:off x="8121240" y="5493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920000">
                <a:off x="8206920" y="8179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ura della Prof.ssa Lia Rita Di Luzio L.S."F.Quercia"-Marcianis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DAA-A36B-4D4A-8EA0-99DB6D960015}" type="slidenum">
              <a:t>7</a:t>
            </a:fld>
          </a:p>
        </p:txBody>
      </p:sp>
    </p:spTree>
  </p:cSld>
  <p:transition spd="slow"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fd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nten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viluppo delle capacità cognitive e di persona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alutazione mediante Test Educ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Note bibliografich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.Presutti - ”Psicologia della conoscenza e dell’apprendimen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.Presutti - ”Valutazione delle capacità psicocognit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spensa ”La valutazione formativ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spensa “I ruoli degli alunni:ruoli di socializzazione e di apprendimen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spensa “Ambito PsicoCognitiv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spensa ”L’Universo menta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459640" y="1700280"/>
            <a:ext cx="385920" cy="4308480"/>
            <a:chOff x="8459640" y="1700280"/>
            <a:chExt cx="385920" cy="4308480"/>
          </a:xfrm>
        </p:grpSpPr>
        <p:sp>
          <p:nvSpPr>
            <p:cNvPr id="152" name=""/>
            <p:cNvSpPr/>
            <p:nvPr/>
          </p:nvSpPr>
          <p:spPr>
            <a:xfrm flipH="1">
              <a:off x="8459640" y="37432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520120" y="17002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690320" y="357120"/>
            <a:ext cx="1159560" cy="979920"/>
            <a:chOff x="7690320" y="357120"/>
            <a:chExt cx="1159560" cy="979920"/>
          </a:xfrm>
        </p:grpSpPr>
        <p:sp>
          <p:nvSpPr>
            <p:cNvPr id="155" name=""/>
            <p:cNvSpPr/>
            <p:nvPr/>
          </p:nvSpPr>
          <p:spPr>
            <a:xfrm rot="1920000">
              <a:off x="7765560" y="6094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920000">
              <a:off x="7743600" y="6386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20000">
              <a:off x="7875000" y="6577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7690320" y="357120"/>
              <a:ext cx="1159560" cy="979920"/>
              <a:chOff x="7690320" y="357120"/>
              <a:chExt cx="1159560" cy="979920"/>
            </a:xfrm>
          </p:grpSpPr>
          <p:sp>
            <p:nvSpPr>
              <p:cNvPr id="159" name=""/>
              <p:cNvSpPr/>
              <p:nvPr/>
            </p:nvSpPr>
            <p:spPr>
              <a:xfrm rot="1920000">
                <a:off x="8436960" y="112248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20000">
                <a:off x="7740720" y="60012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20000">
                <a:off x="7894440" y="58392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20000">
                <a:off x="7976880" y="4762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20000">
                <a:off x="8062560" y="74484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ura della Prof.ssa Lia Rita Di Luzio L.S."F.Quercia"-Marcianis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968-3E3D-4AC6-BDA6-511D809F3412}" type="slidenum">
              <a:t>8</a:t>
            </a:fld>
          </a:p>
        </p:txBody>
      </p:sp>
    </p:spTree>
  </p:cSld>
  <p:transition spd="slow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fd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492280"/>
            <a:ext cx="3203640" cy="2016360"/>
          </a:xfrm>
          <a:prstGeom prst="ellipse">
            <a:avLst/>
          </a:prstGeom>
          <a:solidFill>
            <a:srgbClr val="3333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323748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FOR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2565360"/>
            <a:ext cx="3160800" cy="2016000"/>
          </a:xfrm>
          <a:prstGeom prst="ellipse">
            <a:avLst/>
          </a:prstGeom>
          <a:solidFill>
            <a:srgbClr val="3333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43640" y="3313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TUTORAG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4076640"/>
            <a:ext cx="3529080" cy="2087640"/>
          </a:xfrm>
          <a:prstGeom prst="ellipse">
            <a:avLst/>
          </a:prstGeom>
          <a:solidFill>
            <a:srgbClr val="3333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 rot="10778400">
            <a:off x="3110040" y="4734720"/>
            <a:ext cx="282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COLLABORAZIONE-CORDINAMENTO-MONITORAG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55640" y="6890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Attività in fase di svolg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11640" y="2421000"/>
            <a:ext cx="431640" cy="865080"/>
          </a:xfrm>
          <a:prstGeom prst="downArrow">
            <a:avLst>
              <a:gd name="adj1" fmla="val 50000"/>
              <a:gd name="adj2" fmla="val 501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1557360"/>
            <a:ext cx="431640" cy="865080"/>
          </a:xfrm>
          <a:prstGeom prst="downArrow">
            <a:avLst>
              <a:gd name="adj1" fmla="val 50000"/>
              <a:gd name="adj2" fmla="val 501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1557360"/>
            <a:ext cx="431640" cy="865080"/>
          </a:xfrm>
          <a:prstGeom prst="downArrow">
            <a:avLst>
              <a:gd name="adj1" fmla="val 50000"/>
              <a:gd name="adj2" fmla="val 501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ura della Prof.ssa Lia Rita Di Luzio L.S."F.Quercia"-Marcian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32A-4D6E-4592-A850-04152CFD9E12}" type="slidenum">
              <a:t>9</a:t>
            </a:fld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4:04:14Z</dcterms:created>
  <dc:creator/>
  <dc:description/>
  <dc:language>en-US</dc:language>
  <cp:lastModifiedBy>Geom. Tullio Coccoli</cp:lastModifiedBy>
  <dcterms:modified xsi:type="dcterms:W3CDTF">2004-02-18T21:05:03Z</dcterms:modified>
  <cp:revision>58</cp:revision>
  <dc:subject/>
  <dc:title>Progetto: Caserta :Provincia Laboratorio   Percorso avanzato -L.S. Marcianise</dc:title>
</cp:coreProperties>
</file>